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B00-7A4E-4B0B-8C86-871D65BD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C06-2049-427B-A2ED-E432288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C67-1666-45BE-BA3F-9F5A2AB0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722-F19F-4AB8-91DD-7D865717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AED-8D23-417B-BBE8-2E18D06C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526-2142-4BE5-A983-85733C1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2B2-D2D4-40D3-B455-5274A84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12D-A3A5-42E4-BC22-58CE4352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057-E14B-43D2-A52A-FE147716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545-D99C-446D-AC9B-D461497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779-0EDC-4D6D-9EAC-9E179C3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3C2-0541-4D2E-A054-3B5EBDE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E73-FBF9-489B-930B-848687F4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thi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your society’s view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perfection or imperf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s y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(d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-powerful, all-knowing, all-good, or any combination of these th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what are y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(s)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mi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limi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racteristics of your culture are captured in the imperfection of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2-God"/>
          <p:cNvPicPr/>
          <p:nvPr/>
        </p:nvPicPr>
        <p:blipFill>
          <a:blip r:embed="rId1"/>
          <a:stretch/>
        </p:blipFill>
        <p:spPr>
          <a:xfrm>
            <a:off x="5334120" y="1523880"/>
            <a:ext cx="338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defense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creation myth should follow the general format of a myth </a:t>
            </a:r>
            <a:r>
              <a:rPr b="0" i="1" lang="en-US" sz="3200" spc="-1" strike="noStrike">
                <a:solidFill>
                  <a:srgbClr val="bbe0e3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include an explanation of basic human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reation myths are sometimes used to explain the separation between the </a:t>
            </a:r>
            <a:r>
              <a:rPr b="0" i="1" lang="en-US" sz="3200" spc="-1" strike="noStrike">
                <a:solidFill>
                  <a:srgbClr val="bbe0e3"/>
                </a:solidFill>
                <a:latin typeface="Arial"/>
              </a:rPr>
              <a:t>god(s)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age_ofthe_earth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gia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Jung developed the idea of the archetyp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ring patterns of behavior and situations among people of diverse backgrounds and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g believed that archetypes transcend time and geography because they are part of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llective conscious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by all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4b-Adam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228600"/>
            <a:ext cx="8686800" cy="6362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seph Campbell’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ry Archetyp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bell used Jung’s theories to identify archetypal elements in history and literature. Campbell’s archetyp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ring patterns of images, situations, symbols, metaphors, and characters found in the mythology, religion, art, and dreams  of cultures around the 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ossil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09480" y="1217520"/>
            <a:ext cx="7925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in Scie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human_origin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de novo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 = 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from nothing. 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De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Particularly popular in monotheistic reli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 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Greek, Hebrew, Indian, Mayan, Ma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biblical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bbe0e3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ion by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Deus Faber 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is lends to the Hebrew architect image of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God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Hebrew, Huron, Spider Woman, Yu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dinosaur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lackfoot, Hebrew, Dyak, Egyptian, 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Babylonian, Indian, R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fense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ion through the sacrifice of a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Often dealt with as renewal through sacrific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Jesus, Osiris, Attis, and Dionysus all have stories of this type of my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Related heavily to Creation by Dismember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ge_ofthe_earth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askerville Old Face"/>
              </a:rPr>
              <a:t>We’ve all got to start somewhere</a:t>
            </a:r>
            <a:r>
              <a:rPr b="0" i="1" lang="en-US" sz="3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age_ofthe_earth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04920" y="17136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Creation by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Just what it sounds like…creation via bodily fl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Very focused on the ‘divinity’ of life fl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ypically a solitary male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god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antu, Boshongo, Chuckchee, Egypt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ion is a projection of the creator’s though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is theory is hinted at in aboriginal dreaming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Powerful supreme being preexists existence, world contained in the Min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uddhist, Laguna, Navajo, Winneb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biblical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e Supreme Being speaks the Word and connects Logos or Cosmic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God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said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Hebrew, Christian, Mayan, Nav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fossil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uman_origin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fossil_record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, Finnish, Indian, Japa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age_ofthe_earth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8600" y="19044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reation by Division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Egyptia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Out of Chao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haos is the Greek word for primal vo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Greek, Babylonian, Japane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ostly Native Amer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volves the emergence of the people from an under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dinosaur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is belief is that a prior people created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ow can literature influence cultural beliefs and social percep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iblical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Loosely called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ig-Bang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ge_ofthe_earth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rchetypes within creation my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ultural and mor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human_origin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you going to do with all that knowl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create a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– geography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ossils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 a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myth must be based on the specific and unique elements of your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use metaphors to help your readers understand your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demonstrate your understanding of archetypes in the structure and elements of your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fossil_record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culture’s creation myth mu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state of existence before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your understanding of at least one creation arche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and define your creator(s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state of existence after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 a general narrative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age_ofthe_earth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your creation myth appropriate to the culture you hav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ulture myth needs to fit the geography, scientific timeframe, and the world you hav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crea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gical. Your culture is primitive and has had no exposure to our often cynical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efore we conclude this topic of study, I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cultural influences of creation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dentify archetypal features of creation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e and contrast creation myths originating from diverse world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rite an original creation myth that includes common archetypal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sent my creation myth to my p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b-Adam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228600"/>
            <a:ext cx="8686800" cy="6362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ditional or legendary story, usually concerning some being or hero or event, with or without a determinable basis of fact or a natural explanation, especially one that is concerned with deities or demigods and explains some practice, rite, or phenomenon of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http://dictionary.reference.com/browse/m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dinosaurs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Why do we need creation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ccording to Joseph Campbell, “The question being answered is not who made the world or how, but rather the need for  the presence of a creator being visible in all thing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iblical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taphors in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etaphors are used in myths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taphors should be universally acknowledged images.  Or at least, they should be easily recognizable to people belonging to a specific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4b-Adam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495360"/>
            <a:ext cx="8686800" cy="5676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etaphor, as defined in our glossary, is a figure of speech in which an implied comparison is made between two unlike things that actually have something important in common. The wor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taph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self is a metaphor, coming from a Greek word meaning to "transfer" or "carry across." Metaphors "carry" meaning from one word, image, or idea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ow can metaphors help us understand creation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etaphors are relevant to the geography around which the culture has developed.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Japanese myths often focus on the ocean, while myths of the Midwest Indian tribes do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etaphors define the roles of men, women, animals, and possibly the interrelations among divers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Timothy Jarman</cp:lastModifiedBy>
  <dcterms:modified xsi:type="dcterms:W3CDTF">2012-01-29T23:09:01Z</dcterms:modified>
  <cp:revision>11</cp:revision>
  <dc:subject/>
  <dc:title>CREATION</dc:title>
</cp:coreProperties>
</file>